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209-41F8-4168-A1C0-3664BA82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8F6-3EE7-4820-A821-661EB50D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0CA-BA8A-4A41-9818-5C15060D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520-A41E-45EB-B5A2-A8C00139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AD0-81DC-4CE7-A862-D1B4FB36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922-EAEF-4D14-AB93-92181BC1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B01-D45C-4234-9527-1132C90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C0A-8CCB-421E-A071-20A43FBB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581-BFC7-47BF-9892-0BE08A67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E8D-9E9A-4620-B9E0-16429583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E2B-7B75-4D3A-BC9B-60E73B1B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DEF-8342-40D7-83FB-E19DF48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AD78-B9DD-49E6-AE8B-A8D71BEFE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ngclips.com/movie-clips/cinderella-man/breaking-my-promise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4-2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work with my peers to develop a deeper understanding of the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276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ch parent do you agree with?  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771120" y="5638680"/>
            <a:ext cx="76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ingclips.com/movie-clips/cinderella-man/breaking-my-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assigned reading pages and job page for the discussion which will take place the second half of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on your Thoughtful Text 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 all of the work, you may get with your group members to work on your trailer, read your SSR book, or work on the “I Can”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lass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all members of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member speaks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roup members will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mbers must 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ut dow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alifornian FB"/>
              </a:rPr>
              <a:t>Discussion Tasks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Discussion Direc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t in your “two c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Literary Luminary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co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Word Wizard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p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Creative Connec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ake one from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telligent Illustra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 corners quick sk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share your “Thoughtful Text”, take a card every time you share a piece of text or respon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deas for Invisible Children Po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ere are the kids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at are the kids in danger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at has the group “Invisible Children” done for the kids so f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ere will the money raised go?  What purpose do the funds se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y should people d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Powerful qu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Statements from the k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1:53:42Z</dcterms:created>
  <dc:creator>Administrator</dc:creator>
  <dc:description/>
  <dc:language>en-US</dc:language>
  <cp:lastModifiedBy>Administrator</cp:lastModifiedBy>
  <dcterms:modified xsi:type="dcterms:W3CDTF">2011-04-26T02:05:47Z</dcterms:modified>
  <cp:revision>5</cp:revision>
  <dc:subject/>
  <dc:title>Do Now 4-26 I can work with my peers to develop a deeper understanding of the text.</dc:title>
</cp:coreProperties>
</file>